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663-D058-4AB8-B6EC-8E338ACA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: if genes are located on separate chromosomes, they will be inherited independently of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reuniversity.grkraj.org/html/9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topic/how-to-double-cros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biology/dihybrid-cross-calculato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unnett_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79B-EDB2-45B2-9CD3-C6831556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C4F-AFC7-4415-9111-9A373BED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98D-7631-4CE7-B76E-A81D5A5A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F1F-0CB6-4C92-8D2F-1A247EA8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C53-DAAC-4A3C-8055-7823155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E97-0052-4687-86F0-88615A0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2D9-9251-4470-9354-538E90A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725-E146-475F-B3F8-4C89E554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34C-05B5-4077-B536-DCAD7B0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7BA-65E6-492E-BB85-03E220A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193-F9DE-4025-8259-39467C68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681-C681-48A9-A073-CF32647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1088-B81A-4C13-AB25-996B4C53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trait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Practice #1 on page 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also studied the inheritance of 2 separate tra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8240" y="1981080"/>
            <a:ext cx="47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round yellow seeds is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green wrinkled seeds i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 -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2200" y="1981080"/>
            <a:ext cx="56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enotype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16 yellow,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6 yellow, wrink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6 green,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 green, wrink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doing one large Punnett square, you could do Punnett squares for each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probabilities of each trait to get your phenotyp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62080" y="609480"/>
            <a:ext cx="681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39:20Z</dcterms:created>
  <dc:creator>rubina khan</dc:creator>
  <dc:description/>
  <dc:language>en-US</dc:language>
  <cp:lastModifiedBy>rubina khan</cp:lastModifiedBy>
  <dcterms:modified xsi:type="dcterms:W3CDTF">2013-03-25T04:44:45Z</dcterms:modified>
  <cp:revision>39</cp:revision>
  <dc:subject/>
  <dc:title>Genetic Processes</dc:title>
</cp:coreProperties>
</file>